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B3A4-F684-4DA6-A575-5B1B74E2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A53-3AC3-4C6A-B2F0-BFE31653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EC2-B983-46A3-8450-CC7B632F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FCF-3B88-4678-9864-3CD91848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675B-1614-4670-B83F-5D16810F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80B4-CA63-4293-A7DF-74DE0B7B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6940-3EF6-4DF9-869F-B91F3EC7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3C5F-8980-422C-89F9-70B4AFE9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0B94-D8EF-47E2-B15B-F975FA21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E187-EB26-4345-8BA5-3A12582A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D646-7297-4873-8CBF-A541E863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75C-C430-45F1-AF90-4D02B267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D901-195C-401B-AF32-7360A56B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8733-C316-4982-81A6-25154856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A9AA-FCEF-4DB8-BE7F-DD54CF39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774D-9E86-4B64-9496-1C13828E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28DD-B605-46B3-9122-D2D57493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3849-2CDB-4F85-A0DB-A967295F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6FA4-6795-48FC-A2D8-D7F132A1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689-503C-4FC5-A9C4-3ADA1AB1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993B-3284-44D1-9E03-40084833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5014-08CF-49B1-990C-B0B7CEEC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EFA-F6A9-4036-99E9-9AD8CE59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938A-D2C3-46EB-A6A5-FACBF2BE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83FF-D753-4EF6-94D2-59D3FD48F867}" type="slidenum">
              <a:rPr b="0" lang="fr-FR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45ED-88AB-45F9-86BD-400491116CF5}" type="slidenum">
              <a:rPr b="0" lang="fr-FR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0574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29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333329"/>
                </a:solidFill>
                <a:latin typeface="Arial"/>
              </a:rPr>
              <a:t>Development and Mesure of Social Chang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47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Black"/>
              </a:rPr>
              <a:t>Education in Keral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6400800"/>
            <a:ext cx="5334120" cy="459720"/>
          </a:xfrm>
          <a:prstGeom prst="rect">
            <a:avLst/>
          </a:prstGeom>
          <a:solidFill>
            <a:srgbClr val="bab9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fr-FR" sz="2400" spc="-1" strike="noStrike">
                <a:solidFill>
                  <a:srgbClr val="333333"/>
                </a:solidFill>
                <a:latin typeface="Times New Roman"/>
              </a:rPr>
              <a:t>Anne Buis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4348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8" name="univ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040040" cy="1028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6a6954"/>
                </a:solidFill>
                <a:uFillTx/>
                <a:latin typeface="Arial"/>
              </a:rPr>
              <a:t>2- Major trends  : </a:t>
            </a:r>
            <a:r>
              <a:rPr b="1" lang="fr-FR" sz="2800" spc="-1" strike="noStrike" u="sng">
                <a:solidFill>
                  <a:srgbClr val="6a6954"/>
                </a:solidFill>
                <a:uFillTx/>
                <a:latin typeface="Arial"/>
              </a:rPr>
              <a:t>factors of expansion before Independence of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57120" y="1980720"/>
            <a:ext cx="7886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Before Independence :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Role of christians missionnar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Special attention of govern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Popular moveme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After 1956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Involvement in governmental polic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Role of Kerala Sastra Sahitya Parisha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6a6954"/>
                </a:solidFill>
                <a:uFillTx/>
                <a:latin typeface="Arial"/>
              </a:rPr>
              <a:t>2- Major trends  : </a:t>
            </a:r>
            <a:br>
              <a:rPr sz="3600"/>
            </a:br>
            <a:r>
              <a:rPr b="1" lang="fr-FR" sz="2800" spc="-1" strike="noStrike" u="sng">
                <a:solidFill>
                  <a:srgbClr val="6a6954"/>
                </a:solidFill>
                <a:uFillTx/>
                <a:latin typeface="Arial"/>
              </a:rPr>
              <a:t>Reduction of spatial disparities in Ker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659" t="6833" r="12577" b="6523"/>
          <a:stretch/>
        </p:blipFill>
        <p:spPr>
          <a:xfrm>
            <a:off x="1219320" y="1981080"/>
            <a:ext cx="7848360" cy="461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6a6954"/>
                </a:solidFill>
                <a:uFillTx/>
                <a:latin typeface="Arial"/>
              </a:rPr>
              <a:t>3- Education and mesure 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7120" y="1599840"/>
            <a:ext cx="7886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Arial"/>
              </a:rPr>
              <a:t>Subjective dimension of education : a lower opportunity to mesure education in quantitative term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Arial"/>
              </a:rPr>
              <a:t>A solution :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Take into account dynamic of educ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Isolate different phases related to educational cycle at the individual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6a6954"/>
                </a:solidFill>
                <a:uFillTx/>
                <a:latin typeface="Arial"/>
              </a:rPr>
              <a:t>3- Education and mesure  : </a:t>
            </a:r>
            <a:br>
              <a:rPr sz="3600"/>
            </a:br>
            <a:r>
              <a:rPr b="1" lang="fr-FR" sz="2800" spc="-1" strike="noStrike" u="sng">
                <a:solidFill>
                  <a:srgbClr val="6a6954"/>
                </a:solidFill>
                <a:uFillTx/>
                <a:latin typeface="Arial"/>
              </a:rPr>
              <a:t>differents phases of educational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4597560"/>
            <a:ext cx="2666880" cy="355320"/>
          </a:xfrm>
          <a:custGeom>
            <a:avLst/>
            <a:gdLst>
              <a:gd name="textAreaLeft" fmla="*/ 569520 w 2666880"/>
              <a:gd name="textAreaRight" fmla="*/ 1776240 w 2666880"/>
              <a:gd name="textAreaTop" fmla="*/ 47520 h 355320"/>
              <a:gd name="textAreaBottom" fmla="*/ 307800 h 35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225" hR="21600" stAng="10800000" swAng="-5400000"/>
                <a:lnTo>
                  <a:pt x="9773" y="21600"/>
                </a:lnTo>
                <a:arcTo wR="9225" hR="21600" stAng="5400000" swAng="-3527658"/>
                <a:lnTo>
                  <a:pt x="21306" y="5410"/>
                </a:lnTo>
                <a:lnTo>
                  <a:pt x="18724" y="0"/>
                </a:lnTo>
                <a:lnTo>
                  <a:pt x="15554" y="5410"/>
                </a:lnTo>
                <a:lnTo>
                  <a:pt x="18156" y="5410"/>
                </a:lnTo>
                <a:arcTo wR="9225" hR="21600" stAng="1872342" swAng="3484032"/>
                <a:lnTo>
                  <a:pt x="9499" y="21590"/>
                </a:lnTo>
                <a:arcTo wR="9225" hR="21600" stAng="5443625" swAng="5356375"/>
                <a:close/>
              </a:path>
              <a:path fill="darkenLess" w="21600" h="21600">
                <a:moveTo>
                  <a:pt x="0" y="0"/>
                </a:moveTo>
                <a:arcTo wR="9225" hR="21600" stAng="10800000" swAng="-5400000"/>
                <a:lnTo>
                  <a:pt x="9773" y="21600"/>
                </a:lnTo>
                <a:arcTo wR="9225" hR="21600" stAng="5400000" swAng="43625"/>
                <a:lnTo>
                  <a:pt x="9499" y="21590"/>
                </a:lnTo>
                <a:arcTo wR="9225" hR="21600" stAng="5443625" swAng="535637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525780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Access to knowledge facili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4597560"/>
            <a:ext cx="2667240" cy="355320"/>
          </a:xfrm>
          <a:custGeom>
            <a:avLst/>
            <a:gdLst>
              <a:gd name="textAreaLeft" fmla="*/ 569520 w 2667240"/>
              <a:gd name="textAreaRight" fmla="*/ 1776600 w 2667240"/>
              <a:gd name="textAreaTop" fmla="*/ 47520 h 355320"/>
              <a:gd name="textAreaBottom" fmla="*/ 307800 h 35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225" hR="21600" stAng="10800000" swAng="-5400000"/>
                <a:lnTo>
                  <a:pt x="9773" y="21600"/>
                </a:lnTo>
                <a:arcTo wR="9225" hR="21600" stAng="5400000" swAng="-3527658"/>
                <a:lnTo>
                  <a:pt x="21306" y="5410"/>
                </a:lnTo>
                <a:lnTo>
                  <a:pt x="18724" y="0"/>
                </a:lnTo>
                <a:lnTo>
                  <a:pt x="15554" y="5410"/>
                </a:lnTo>
                <a:lnTo>
                  <a:pt x="18156" y="5410"/>
                </a:lnTo>
                <a:arcTo wR="9225" hR="21600" stAng="1872342" swAng="3484032"/>
                <a:lnTo>
                  <a:pt x="9499" y="21590"/>
                </a:lnTo>
                <a:arcTo wR="9225" hR="21600" stAng="5443625" swAng="5356375"/>
                <a:close/>
              </a:path>
              <a:path fill="darkenLess" w="21600" h="21600">
                <a:moveTo>
                  <a:pt x="0" y="0"/>
                </a:moveTo>
                <a:arcTo wR="9225" hR="21600" stAng="10800000" swAng="-5400000"/>
                <a:lnTo>
                  <a:pt x="9773" y="21600"/>
                </a:lnTo>
                <a:arcTo wR="9225" hR="21600" stAng="5400000" swAng="43625"/>
                <a:lnTo>
                  <a:pt x="9499" y="21590"/>
                </a:lnTo>
                <a:arcTo wR="9225" hR="21600" stAng="5443625" swAng="5356375"/>
                <a:close/>
              </a:path>
            </a:pathLst>
          </a:custGeom>
          <a:solidFill>
            <a:srgbClr val="e0914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4321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3662280"/>
            <a:ext cx="2514600" cy="520560"/>
          </a:xfrm>
          <a:prstGeom prst="rect">
            <a:avLst/>
          </a:prstGeom>
          <a:solidFill>
            <a:srgbClr val="f4f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33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3662280"/>
            <a:ext cx="2514600" cy="520560"/>
          </a:xfrm>
          <a:prstGeom prst="rect">
            <a:avLst/>
          </a:prstGeom>
          <a:solidFill>
            <a:srgbClr val="f4f3d9"/>
          </a:solidFill>
          <a:ln w="9360">
            <a:solidFill>
              <a:srgbClr val="e09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09142"/>
                </a:solidFill>
                <a:latin typeface="Arial"/>
              </a:rPr>
              <a:t>Literacy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540240"/>
            <a:ext cx="2514600" cy="947160"/>
          </a:xfrm>
          <a:prstGeom prst="rect">
            <a:avLst/>
          </a:prstGeom>
          <a:solidFill>
            <a:srgbClr val="f4f3d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cc00"/>
                </a:solidFill>
                <a:latin typeface="Arial"/>
              </a:rPr>
              <a:t>Schooling acces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25780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9142"/>
                </a:solidFill>
                <a:latin typeface="Times New Roman"/>
                <a:ea typeface="Times New Roman"/>
              </a:rPr>
              <a:t>Modify individual profi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7120" y="1599840"/>
            <a:ext cx="7886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Access to schooling facilities will rise literacy level and can modify the individual profile : this gives educa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6a6954"/>
                </a:solidFill>
                <a:uFillTx/>
                <a:latin typeface="Arial"/>
              </a:rPr>
              <a:t>3- Education and mesure  : </a:t>
            </a:r>
            <a:br>
              <a:rPr sz="3600"/>
            </a:br>
            <a:r>
              <a:rPr b="1" lang="fr-FR" sz="2800" spc="-1" strike="noStrike" u="sng">
                <a:solidFill>
                  <a:srgbClr val="6a6954"/>
                </a:solidFill>
                <a:uFillTx/>
                <a:latin typeface="Arial"/>
              </a:rPr>
              <a:t>a spatial dimension</a:t>
            </a:r>
            <a:r>
              <a:rPr b="1" lang="fr-FR" sz="3600" spc="-1" strike="noStrike" u="sng">
                <a:solidFill>
                  <a:srgbClr val="6a6954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80769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Arial"/>
              </a:rPr>
              <a:t>Schedule datas :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333333"/>
                </a:solidFill>
                <a:latin typeface="Arial"/>
              </a:rPr>
              <a:t>Datas related to material dimension of education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333333"/>
                </a:solidFill>
                <a:latin typeface="Arial"/>
              </a:rPr>
              <a:t>Datas related to people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Arial"/>
              </a:rPr>
              <a:t>Analyse the territorial contex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333333"/>
                </a:solidFill>
                <a:latin typeface="Arial"/>
              </a:rPr>
              <a:t>Explore schooling opportunities offered to individuals in terms of territorial managemen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333333"/>
                </a:solidFill>
                <a:latin typeface="Arial"/>
              </a:rPr>
              <a:t>Look at the social distribution expressed through representations set.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6a6954"/>
                </a:solidFill>
                <a:uFillTx/>
                <a:latin typeface="Arial"/>
              </a:rPr>
              <a:t>Conclusion  : </a:t>
            </a:r>
            <a:br>
              <a:rPr sz="3600"/>
            </a:br>
            <a:r>
              <a:rPr b="1" lang="fr-FR" sz="2800" spc="-1" strike="noStrike" u="sng">
                <a:solidFill>
                  <a:srgbClr val="6a6954"/>
                </a:solidFill>
                <a:uFillTx/>
                <a:latin typeface="Arial"/>
              </a:rPr>
              <a:t>Complexity in geographical approach</a:t>
            </a:r>
            <a:r>
              <a:rPr b="1" lang="fr-FR" sz="3600" spc="-1" strike="noStrike" u="sng">
                <a:solidFill>
                  <a:srgbClr val="6a6954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8077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Arial"/>
              </a:rPr>
              <a:t>To introduce space in a model of educational behaviour at the micro level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Arial"/>
              </a:rPr>
              <a:t>To be aware of all the educational policies at the macro level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Arial"/>
              </a:rPr>
              <a:t>To build a dynamic model to simulate behaviour and to understand links between schooling opportunities and real feedback in education.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6a6954"/>
                </a:solidFill>
                <a:uFillTx/>
                <a:latin typeface="Arial"/>
              </a:rPr>
              <a:t>Introduction</a:t>
            </a:r>
            <a:r>
              <a:rPr b="1" lang="fr-FR" sz="3600" spc="-1" strike="noStrike">
                <a:solidFill>
                  <a:srgbClr val="6a6954"/>
                </a:solidFill>
                <a:latin typeface="Arial"/>
              </a:rPr>
              <a:t> :</a:t>
            </a:r>
            <a:br>
              <a:rPr sz="3600"/>
            </a:br>
            <a:r>
              <a:rPr b="1" lang="fr-FR" sz="3600" spc="-1" strike="noStrike">
                <a:solidFill>
                  <a:srgbClr val="6a6954"/>
                </a:solidFill>
                <a:latin typeface="Arial"/>
              </a:rPr>
              <a:t> Kerala’s achievements in educ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In 1991 : Ernakulam district is declared </a:t>
            </a:r>
            <a:r>
              <a:rPr b="0" i="1" lang="fr-FR" sz="3200" spc="-1" strike="noStrike">
                <a:solidFill>
                  <a:srgbClr val="333333"/>
                </a:solidFill>
                <a:latin typeface="Arial"/>
              </a:rPr>
              <a:t>totally literate </a:t>
            </a: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 by the National Literacy Miss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What does this rise in literacy rates means in reality 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How to mesure this improvement 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literacy_india_1991" descr=""/>
          <p:cNvPicPr/>
          <p:nvPr/>
        </p:nvPicPr>
        <p:blipFill>
          <a:blip r:embed="rId1"/>
          <a:srcRect l="0" t="5896" r="-13581" b="6760"/>
          <a:stretch/>
        </p:blipFill>
        <p:spPr>
          <a:xfrm>
            <a:off x="1219320" y="380880"/>
            <a:ext cx="7924680" cy="62787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a6954"/>
                </a:solidFill>
                <a:latin typeface="Arial"/>
              </a:rPr>
              <a:t>                </a:t>
            </a:r>
            <a:r>
              <a:rPr b="1" lang="fr-FR" sz="3600" spc="-1" strike="noStrike" u="sng">
                <a:solidFill>
                  <a:srgbClr val="6a6954"/>
                </a:solidFill>
                <a:uFillTx/>
                <a:latin typeface="Arial"/>
              </a:rPr>
              <a:t>Literacy in 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0" y="60195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Census of India 199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literacy_india_2001" descr=""/>
          <p:cNvPicPr/>
          <p:nvPr/>
        </p:nvPicPr>
        <p:blipFill>
          <a:blip r:embed="rId1"/>
          <a:srcRect l="0" t="5896" r="-13581" b="6760"/>
          <a:stretch/>
        </p:blipFill>
        <p:spPr>
          <a:xfrm>
            <a:off x="1219320" y="380880"/>
            <a:ext cx="7921440" cy="6276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a6954"/>
                </a:solidFill>
                <a:latin typeface="Arial"/>
              </a:rPr>
              <a:t>                </a:t>
            </a:r>
            <a:r>
              <a:rPr b="1" lang="fr-FR" sz="3600" spc="-1" strike="noStrike" u="sng">
                <a:solidFill>
                  <a:srgbClr val="6a6954"/>
                </a:solidFill>
                <a:uFillTx/>
                <a:latin typeface="Arial"/>
              </a:rPr>
              <a:t>Literacy in 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60199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Census of India 200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1447920" y="624852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e0914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6a6954"/>
                </a:solidFill>
                <a:uFillTx/>
                <a:latin typeface="Arial"/>
              </a:rPr>
              <a:t>1- Education and developement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7120" y="1599840"/>
            <a:ext cx="7886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“ </a:t>
            </a:r>
            <a:r>
              <a:rPr b="0" i="1" lang="en-GB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Importance has to be attached to the distinct influences that promote or constrain the freedoms that individuals have, including their abilitiy to make use of economic opportunities.”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 (DREZE, SEN, 1995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Education is necessary for the functioning of a modern socie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Education can help in the rising of economic and social opportunit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6a6954"/>
                </a:solidFill>
                <a:uFillTx/>
                <a:latin typeface="Arial"/>
              </a:rPr>
              <a:t>1- Education and development :</a:t>
            </a:r>
            <a:br>
              <a:rPr sz="3600"/>
            </a:br>
            <a:r>
              <a:rPr b="1" lang="fr-FR" sz="2800" spc="-1" strike="noStrike" u="sng">
                <a:solidFill>
                  <a:srgbClr val="6a6954"/>
                </a:solidFill>
                <a:uFillTx/>
                <a:latin typeface="Arial"/>
              </a:rPr>
              <a:t>links with soci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3581280"/>
            <a:ext cx="2982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e09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9142"/>
                </a:solidFill>
                <a:latin typeface="Times New Roman"/>
                <a:ea typeface="Times New Roman"/>
              </a:rPr>
              <a:t>SOCI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9142"/>
                </a:solidFill>
                <a:latin typeface="Times New Roman"/>
                <a:ea typeface="Times New Roman"/>
              </a:rPr>
              <a:t>CHANG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3090960"/>
            <a:ext cx="5378400" cy="414360"/>
          </a:xfrm>
          <a:custGeom>
            <a:avLst/>
            <a:gdLst/>
            <a:ahLst/>
            <a:rect l="l" t="t" r="r" b="b"/>
            <a:pathLst>
              <a:path w="4706" h="362">
                <a:moveTo>
                  <a:pt x="0" y="362"/>
                </a:moveTo>
                <a:cubicBezTo>
                  <a:pt x="875" y="181"/>
                  <a:pt x="1750" y="0"/>
                  <a:pt x="2534" y="0"/>
                </a:cubicBezTo>
                <a:cubicBezTo>
                  <a:pt x="3318" y="0"/>
                  <a:pt x="4012" y="181"/>
                  <a:pt x="4706" y="36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2590920" y="4843080"/>
            <a:ext cx="5378400" cy="414360"/>
          </a:xfrm>
          <a:custGeom>
            <a:avLst/>
            <a:gdLst/>
            <a:ahLst/>
            <a:rect l="l" t="t" r="r" b="b"/>
            <a:pathLst>
              <a:path w="4706" h="362">
                <a:moveTo>
                  <a:pt x="0" y="362"/>
                </a:moveTo>
                <a:cubicBezTo>
                  <a:pt x="875" y="181"/>
                  <a:pt x="1750" y="0"/>
                  <a:pt x="2534" y="0"/>
                </a:cubicBezTo>
                <a:cubicBezTo>
                  <a:pt x="3318" y="0"/>
                  <a:pt x="4012" y="181"/>
                  <a:pt x="4706" y="362"/>
                </a:cubicBezTo>
              </a:path>
            </a:pathLst>
          </a:custGeom>
          <a:noFill/>
          <a:ln w="76320">
            <a:solidFill>
              <a:srgbClr val="e0914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300400"/>
            <a:ext cx="9144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3886200"/>
            <a:ext cx="3733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2438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33"/>
                </a:solidFill>
                <a:latin typeface="Arial"/>
              </a:rPr>
              <a:t>Eradicate traditional dispariti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54864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09142"/>
                </a:solidFill>
                <a:latin typeface="Arial"/>
              </a:rPr>
              <a:t>Improve diffusion of literac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6a6954"/>
                </a:solidFill>
                <a:uFillTx/>
                <a:latin typeface="Arial"/>
              </a:rPr>
              <a:t>1- Education and development :</a:t>
            </a:r>
            <a:br>
              <a:rPr sz="3600"/>
            </a:br>
            <a:r>
              <a:rPr b="1" lang="fr-FR" sz="2800" spc="-1" strike="noStrike" u="sng">
                <a:solidFill>
                  <a:srgbClr val="6a6954"/>
                </a:solidFill>
                <a:uFillTx/>
                <a:latin typeface="Arial"/>
              </a:rPr>
              <a:t>a geographical approac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2362320"/>
            <a:ext cx="3733920" cy="459720"/>
          </a:xfrm>
          <a:prstGeom prst="rect">
            <a:avLst/>
          </a:prstGeom>
          <a:solidFill>
            <a:srgbClr val="f4f3d9"/>
          </a:solidFill>
          <a:ln w="9360">
            <a:solidFill>
              <a:srgbClr val="e09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09142"/>
                </a:solidFill>
                <a:latin typeface="Arial"/>
              </a:rPr>
              <a:t>MACRO CONSTRAIN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4648320"/>
            <a:ext cx="2361960" cy="459720"/>
          </a:xfrm>
          <a:prstGeom prst="rect">
            <a:avLst/>
          </a:pr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33"/>
                </a:solidFill>
                <a:latin typeface="Arial"/>
              </a:rPr>
              <a:t>INDIVIDUAL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4648320"/>
            <a:ext cx="2057400" cy="459720"/>
          </a:xfrm>
          <a:prstGeom prst="rect">
            <a:avLst/>
          </a:prstGeom>
          <a:solidFill>
            <a:srgbClr val="f4f3d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cc00"/>
                </a:solidFill>
                <a:latin typeface="Arial"/>
              </a:rPr>
              <a:t>SPA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457200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33"/>
                </a:solidFill>
                <a:latin typeface="Arial"/>
              </a:rPr>
              <a:t>Profile of individual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47242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Utilis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4952880"/>
            <a:ext cx="1295640" cy="0"/>
          </a:xfrm>
          <a:prstGeom prst="line">
            <a:avLst/>
          </a:prstGeom>
          <a:ln w="76320">
            <a:solidFill>
              <a:srgbClr val="3333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54100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Opportuniti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39424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33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5638680"/>
            <a:ext cx="1295640" cy="0"/>
          </a:xfrm>
          <a:prstGeom prst="line">
            <a:avLst/>
          </a:prstGeom>
          <a:ln w="76320">
            <a:solidFill>
              <a:srgbClr val="99cc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895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09142"/>
                </a:solidFill>
                <a:latin typeface="Arial"/>
              </a:rPr>
              <a:t>Soci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1828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09142"/>
                </a:solidFill>
                <a:latin typeface="Arial"/>
              </a:rPr>
              <a:t>Economic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29718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09142"/>
                </a:solidFill>
                <a:latin typeface="Arial"/>
              </a:rPr>
              <a:t>Politic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523520" y="3048120"/>
            <a:ext cx="1752840" cy="1218960"/>
          </a:xfrm>
          <a:prstGeom prst="line">
            <a:avLst/>
          </a:prstGeom>
          <a:ln w="76320">
            <a:solidFill>
              <a:srgbClr val="e0914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3048120"/>
            <a:ext cx="1752480" cy="1218960"/>
          </a:xfrm>
          <a:prstGeom prst="line">
            <a:avLst/>
          </a:prstGeom>
          <a:ln w="76320">
            <a:solidFill>
              <a:srgbClr val="e0914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35812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ff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6a6954"/>
                </a:solidFill>
                <a:uFillTx/>
                <a:latin typeface="Arial"/>
              </a:rPr>
              <a:t>1- Education and development :</a:t>
            </a:r>
            <a:br>
              <a:rPr sz="3600"/>
            </a:br>
            <a:r>
              <a:rPr b="1" lang="en-GB" sz="2800" spc="-1" strike="noStrike">
                <a:solidFill>
                  <a:srgbClr val="6a6954"/>
                </a:solidFill>
                <a:latin typeface="Arial"/>
                <a:ea typeface="Times New Roman"/>
              </a:rPr>
              <a:t>Different hypotesis to understand such a </a:t>
            </a:r>
            <a:br>
              <a:rPr sz="2800"/>
            </a:br>
            <a:r>
              <a:rPr b="1" lang="en-GB" sz="2800" spc="-1" strike="noStrike">
                <a:solidFill>
                  <a:srgbClr val="6a6954"/>
                </a:solidFill>
                <a:latin typeface="Arial"/>
                <a:ea typeface="Times New Roman"/>
              </a:rPr>
              <a:t>model of education 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57120" y="1676160"/>
            <a:ext cx="7886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Is there a real dialectic relation between progress offered to individuals by education and social changes wich can overtake macro level constraints 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what is the spatial dependance for people in their ability to get education 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Localisation is an important factor to understand feedbacks of educa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6a6954"/>
                </a:solidFill>
                <a:uFillTx/>
                <a:latin typeface="Arial"/>
              </a:rPr>
              <a:t>2- Major trends  : </a:t>
            </a:r>
            <a:br>
              <a:rPr sz="3600"/>
            </a:br>
            <a:r>
              <a:rPr b="1" lang="fr-FR" sz="2800" spc="-1" strike="noStrike" u="sng">
                <a:solidFill>
                  <a:srgbClr val="6a6954"/>
                </a:solidFill>
                <a:uFillTx/>
                <a:latin typeface="Arial"/>
              </a:rPr>
              <a:t>expansion of education in Kerala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1783" t="15994" r="0" b="9882"/>
          <a:stretch/>
        </p:blipFill>
        <p:spPr>
          <a:xfrm>
            <a:off x="2743200" y="2133720"/>
            <a:ext cx="6400800" cy="4038480"/>
          </a:xfrm>
          <a:prstGeom prst="rect">
            <a:avLst/>
          </a:prstGeom>
          <a:ln w="0">
            <a:noFill/>
          </a:ln>
        </p:spPr>
      </p:pic>
      <p:pic>
        <p:nvPicPr>
          <p:cNvPr id="149" name="prov" descr=""/>
          <p:cNvPicPr/>
          <p:nvPr/>
        </p:nvPicPr>
        <p:blipFill>
          <a:blip r:embed="rId2"/>
          <a:stretch/>
        </p:blipFill>
        <p:spPr>
          <a:xfrm>
            <a:off x="152280" y="2133720"/>
            <a:ext cx="2548080" cy="3886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143000" y="63244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33"/>
                </a:solidFill>
                <a:latin typeface="Arial"/>
              </a:rPr>
              <a:t>Literacy rates in the different provinces of Kerala and in Indi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0:16:49Z</dcterms:created>
  <dc:creator>Shankar Bapu</dc:creator>
  <dc:description/>
  <dc:language>en-US</dc:language>
  <cp:lastModifiedBy>Shankar Bapu</cp:lastModifiedBy>
  <dcterms:modified xsi:type="dcterms:W3CDTF">2008-07-30T20:09:24Z</dcterms:modified>
  <cp:revision>90</cp:revision>
  <dc:subject/>
  <dc:title>Présentation PowerPoint</dc:title>
</cp:coreProperties>
</file>