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822840"/>
            <a:ext cx="8064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772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1920" y="134100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8200" y="134100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82284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1920" y="382284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8200" y="382284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125280"/>
            <a:ext cx="806436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28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772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5280" y="3822840"/>
            <a:ext cx="8064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55280" y="3822840"/>
            <a:ext cx="8064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528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772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1920" y="134100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8200" y="134100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55280" y="382284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1920" y="382284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8200" y="3822840"/>
            <a:ext cx="2596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125280"/>
            <a:ext cx="806436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7720" y="382284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7720" y="1341000"/>
            <a:ext cx="3935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822840"/>
            <a:ext cx="8064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920" y="6508800"/>
            <a:ext cx="79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éminaire Géographie et recensement en Inde – 26 novemb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7"/>
          <a:stretch/>
        </p:blipFill>
        <p:spPr>
          <a:xfrm>
            <a:off x="766800" y="1197000"/>
            <a:ext cx="8055000" cy="10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8"/>
          <a:stretch/>
        </p:blipFill>
        <p:spPr>
          <a:xfrm>
            <a:off x="8470800" y="6165720"/>
            <a:ext cx="673200" cy="692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9"/>
          <a:stretch/>
        </p:blipFill>
        <p:spPr>
          <a:xfrm>
            <a:off x="0" y="6161040"/>
            <a:ext cx="125892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4200"/>
            <a:ext cx="77724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40" y="909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UMR 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3753000"/>
            <a:ext cx="8353440" cy="10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047080" y="0"/>
            <a:ext cx="109548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" y="1440"/>
            <a:ext cx="151452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44200"/>
            <a:ext cx="77724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ÉDUCATION ET MESURE: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  <a:ea typeface="Times New Roman"/>
              </a:rPr>
              <a:t>l’exemple de l’alphabétisation en Inde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562720" y="579096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Anne Buisson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Ater Université de Provence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Vers une approche quantitative de l’éducat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Objet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ocalisation du phénomène éducati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ilisation de méthodes d’explor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richir les données relatives à l’éducation par d’autres données Census disponibl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er la structuration de l’espace par l’alphabét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s persi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s évolu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Plus loin dans l’exploration…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ynamique du phénomène éducati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ngement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olution des ment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ynamique territo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valuer la portée du circuit éducati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lacer l’éducation dans la relation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vid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intégration au niveau du cycle de v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cié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ontraintes socio-économ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pac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onfigurations territo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éducation ne se mesure pas mais s’appréhende à l’aide d’indicateurs indirects, mais aussi à travers les opportunités scolaires présentes sur un territoi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géographie permet d’enrichir une approche globale de l’alphabétisation par la distinction ent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és éducatives offer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és éducatives ré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Éducat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9900"/>
                </a:solidFill>
                <a:uFillTx/>
                <a:latin typeface="Arial"/>
              </a:rPr>
              <a:t>Définition :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semble de moyens (connaissances générales, langage et techniques de communication, règles morales etc…) qu’une société met à la disposition de ses membres afin de développer leur personnalité en prenant part à la vie collective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 vecteur de soc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 moteur de développ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 signe de modernit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Un indicateur de l’éducation en Inde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1281240" cy="1338120"/>
          </a:xfrm>
          <a:prstGeom prst="rect">
            <a:avLst/>
          </a:prstGeom>
          <a:ln w="0">
            <a:noFill/>
          </a:ln>
        </p:spPr>
      </p:pic>
      <p:pic>
        <p:nvPicPr>
          <p:cNvPr id="90" name="carte" descr=""/>
          <p:cNvPicPr/>
          <p:nvPr/>
        </p:nvPicPr>
        <p:blipFill>
          <a:blip r:embed="rId3"/>
          <a:srcRect l="3467" t="5951" r="14536" b="16676"/>
          <a:stretch/>
        </p:blipFill>
        <p:spPr>
          <a:xfrm>
            <a:off x="536400" y="457200"/>
            <a:ext cx="5407200" cy="5943600"/>
          </a:xfrm>
          <a:prstGeom prst="rect">
            <a:avLst/>
          </a:prstGeom>
          <a:ln w="0">
            <a:noFill/>
          </a:ln>
        </p:spPr>
      </p:pic>
      <p:pic>
        <p:nvPicPr>
          <p:cNvPr id="91" name="legende" descr=""/>
          <p:cNvPicPr/>
          <p:nvPr/>
        </p:nvPicPr>
        <p:blipFill>
          <a:blip r:embed="rId4"/>
          <a:srcRect l="0" t="5561" r="62477" b="8283"/>
          <a:stretch/>
        </p:blipFill>
        <p:spPr>
          <a:xfrm>
            <a:off x="5715000" y="3581280"/>
            <a:ext cx="762120" cy="2362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77120" y="3657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8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4038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80 à 8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4419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70 à 8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800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60 à 7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81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6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562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nées in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2767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ux d’alphabét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9436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yenne In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65,38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35472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urce 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nsus of India, 2001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A.Buisson, 2005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0481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26668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                   5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Éducation et alphabétisat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éfinition de l’alphabétisation selon différentes instit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E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Literacy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us d’é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gmentation du nombre des alphabét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éclin du nombre des  analphab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semble des opportunités édu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  <a:ea typeface="Arial"/>
              </a:rPr>
              <a:t>Éducation et mesure : données du recensement en Inde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29492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habétisation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tion de l’alphabétisation d’un recensement à l’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’alphabétisés par groupe sexué (hommes et fem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’alphabétisés par groupe défavorisé (Scheduled Castes, Scheduled Trib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rastructures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’éc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type (privé, semi-public, publ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’enseig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’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Validité des données Census pour l’éducation en Inde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quisition des données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ence de test (propre représentation de son alphabét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tut d’alphabétisé basé sur la réponse du chef de famille (intégrité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nées ne présentent pas l’image exacte de l’alphabétisation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eurs contenues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nalphabètes comptés comme alphabét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usion entre inscription dans une école / alphabé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enquêteurs du Census 2001 : enseignants locaux (influence 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Enrichir les données sur l’alphabétisat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ilisation d’autres donné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 pistes géographiques…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ation de données spatialis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iller sur la localisation du phénomène éduc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ation des données spat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r la structuration de l’espace par l’alphabétis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hodes expé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sager la dynamique du système éduc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Utilisation d’autres données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surer l’importance et la pertinence des inscrip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ticipation réelle au système éducati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ttre en valeur l’importance des 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primary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it mener au 100% alphabé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act direct sur les niveaux supéri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donc sur la totalité des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25280"/>
            <a:ext cx="8064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La dimension spatiale du phénomène éducatif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ailler sur l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tructure spatia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 l’alphabét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tre en évidence les lois sociales qui contraignent ou promeuvent l’éducation en s’appuyant sur des exemples locau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richir sa vision de l’éducation en la replaçant dans le contexte social qui lui est attach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2096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41148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13:09Z</dcterms:created>
  <dc:creator>CTIG</dc:creator>
  <dc:description/>
  <dc:language>en-US</dc:language>
  <cp:lastModifiedBy>Shankar Bapu</cp:lastModifiedBy>
  <dcterms:modified xsi:type="dcterms:W3CDTF">2005-11-25T10:52:21Z</dcterms:modified>
  <cp:revision>55</cp:revision>
  <dc:subject/>
  <dc:title>EDUCATION ET MESURE</dc:title>
</cp:coreProperties>
</file>